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74448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5"/>
          </p:nvPr>
        </p:nvSpPr>
        <p:spPr>
          <a:xfrm>
            <a:off x="5950080" y="-360"/>
            <a:ext cx="907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move the slide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914040" y="4343040"/>
            <a:ext cx="2646360" cy="12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6"/>
          </p:nvPr>
        </p:nvSpPr>
        <p:spPr>
          <a:xfrm>
            <a:off x="-360" y="8867160"/>
            <a:ext cx="70164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7"/>
          </p:nvPr>
        </p:nvSpPr>
        <p:spPr>
          <a:xfrm>
            <a:off x="6495840" y="8867160"/>
            <a:ext cx="36180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E1434-5EEF-4F10-B341-B5A45764A5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3429000" y="2400480"/>
            <a:ext cx="0" cy="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52280" y="4202280"/>
            <a:ext cx="6553440" cy="41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efault - For categories where no configuration has been defin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general - For messages still not classifi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atabase- Internal database messag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ecurity - Approval and denial of reques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onfig - Configuration file parsing and process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resolver - DNS resolution, such as the recursive lookup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xfer-in - Zone transfers the server is receiv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xfer-out - Zone transfers the server is send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notify - The NOTIFY protoco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lient - Processing of client reques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unmatched - Messages with undetermined class or vie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network - Network oper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update - Dynamic upda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queries - Query logg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ispatch - Dispatching of incoming packets to modul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nssec - DNSSEC and TSIG protocol processing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lame-servers - misconfigurations of remote server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5E2715-29B2-4036-936D-080BD2C0D43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4844AD-EEC8-413A-9766-4C55C55BA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E7DB26-A5FE-429F-83F9-50B97E7D1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2060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7452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6668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2060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7452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83F3C8-0308-4228-BE9C-D3BDF2150CB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514240" y="22824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92C1B7-BDF9-4785-A614-EA801CD63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060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7452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06668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72060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7452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83B05C-AE98-4E64-924C-AABDA8E05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7AAC26-6A19-4AD0-81FE-6C7611E65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8F7FF3-BDAB-451C-B63B-7AFBB5C37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514240" y="22824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8CA603-30FE-4F73-8108-E324A9BEA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41A7BD-A3CA-4D4B-B7E4-7065545F6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E3289A-5546-4B93-83B5-B02157094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971E3B-F12D-4147-8225-DAF3F830A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7527960" y="6499080"/>
            <a:ext cx="11271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Jump to first page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8637480" y="6551640"/>
            <a:ext cx="131760" cy="15408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8866080" y="6553080"/>
            <a:ext cx="131760" cy="15408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93360" y="6400440"/>
            <a:ext cx="106524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93360" y="6553080"/>
            <a:ext cx="105876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 -</a:t>
            </a:r>
            <a:fld id="{FDFCA501-898B-427E-B7F6-F9ABEAE7C064}" type="slidenum">
              <a:rPr b="0" lang="en-US" sz="9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6680" y="1523880"/>
            <a:ext cx="807732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496880" y="1676520"/>
            <a:ext cx="764712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90920" y="45684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28144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152280" y="6400440"/>
            <a:ext cx="26654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267080" y="5029200"/>
            <a:ext cx="4519800" cy="11286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590920" y="45684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Troubleshooting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oe Able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abley@isc.or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28760" y="6270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slideset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s the Server Running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ce the name server is thought to be running, make sure it i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dig @127.0.0.1 version.bind chaos txt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makes the name server do the simplest lookup it can - its version str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also confirms which version you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ommon upgrade error: running the old version, forgetting to 'make install'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7DF4BB-5AEC-4956-947C-6D3139B817A0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s the Server Data Correct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w that the server is the right one (executabl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dig @127.0.0.1 &lt;zone&gt; soa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heck the serial number to make sure the zone has load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so test changed data in case you forgot to update the serial 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en we get to secondary servers, this check is made to see if the zone transferr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D1FC74-C773-43B2-971D-9910F3DA01D5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s the Server Reachable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 dig tests fail, its time to test the environment (machine, networ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ping &lt;server machine ip address&gt;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tests basic network flow, common erro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etwork interface not U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outing to machine not corr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inging 'locally' is useful, believe it or no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onfirms that the IP address is correctly configu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F4E46E-20C7-41C4-B1FD-3F1E47D33443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s the Server Listening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 server does not respond, but machine responds to p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look at system log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elnet server 53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rver will run even if it can't open the network por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logs will show thi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elnet opens a TCP connection, tests whether port was opened at al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2E470C-C74B-40E3-AA68-AB144CDEDA55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s the Server Logging the Right Stuff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voking and examining the log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Log files only appear when need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or example, dnssec logs will start only if 'trusted-keys' are configured and are u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ach category is triggered differentl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riggers may not be obviou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12AB4D-BE5C-401F-BE42-640D7DC24069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Using the Tool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d itself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g/nslooku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host diagnotic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acket sniff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0B2E25-8534-4D82-A754-88C1C34BC29D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uilt in to named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d -g to retain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amed -g -c &lt;conf file&gt;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keeps named in foregrou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d -d &lt;level&gt;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ts the debug output volu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&lt;level&gt;'s aren't strictly defi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d 3 is popular, -d 99 gives a lot of detai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593876-77E2-492C-AA11-8C64DC744798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i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main internet grop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lready used in examp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est tool for test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hows query and response syntax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ocument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man di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dig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luded in named distribu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0BB502-B60F-46B4-B44D-5CAFCF9AD852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Non-BIND Tool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ools to make sure environment is righ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ools to look at server mach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ools to test networ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ools to see what messages are on the networ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A539DD-415E-4335-B627-9BEEE8B57910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fconfi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terFace CONFIGura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fconfig -a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hows the status of interfac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perating system utilit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arning, during boot up, ifconfig may configure interfaces after named is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amed can't open delayed address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cumenta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man ifconfi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B033E4-3634-46F5-9B2E-C66F5E3CB210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y Troubleshoot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at Can Go Wrong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isconfigured zo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isconfigured serve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isconfigured hos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isconfigured networ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943D49-85EA-4B9E-9F14-29CFD72EF7B3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pin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hecks routing, machine health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ost useful if run from another hos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ould be reason "no servers are reached"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be useful on local machine - to see if the interface is properly configu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B8027F-845A-49B8-B516-41863BD3D88D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racerout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ping fails, traceroute can help pinpoint where trouble l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he problem may be rout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f so - it's not named that needs fixing!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ut is it important to know..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220A53-54F6-4A63-B7B0-49C62B7D1A9A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cpdump and ethereal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ce confident in the environment, problems with DNS set ups may ex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o see what is happening in the protocol, use traffic sniff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se tools can help debug "forwarding" of que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thereal can be retrived fro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http://www.ethereal.com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C3D003-D316-40EE-B084-2787439A0EC9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ool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IND Logging Facilit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d's built-i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ing and tracerout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cpdump and etherea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g and nslooku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04E012-3D1E-4058-8CFD-5992B9BA0988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he Best Way To Handle Mistak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sume You Will Make The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pare The Name Server via Logg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2DD473-9EDE-438B-9013-46B88FF9327B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IND Loggin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ling named which messages to se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tegory specific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ling named where to send messag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hannel specific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E59E56-06A5-43AD-9C42-64F77E9950E4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IND Categori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IND has many catego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rt descriptions of each can be found in the Administrator's Reference Manual (ARM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tion 6.2.10.2, page 49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xample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category dnssec {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dnssec_log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A2905B-3994-465A-85A5-BDFBB727370C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IND channel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IND can use syslo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IND can direct output to other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xample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channel dnssec_log {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file "seclog" versions 3 size 10m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print-time yes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print-category yes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print-severity yes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severity debug 3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A32AC8-CB2D-47DA-A0F0-3E46C18B0CD9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So You've Set Up A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at testing should be done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rom Basic livene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s the (right) server running?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s the machine set up correctly?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o data being serv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as the zone loaded?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ave zone transfers happened?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00C0A3-504F-4679-A784-950231A672B5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hecking the Configuratio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o see named start, use the -g fla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Keeps named process in the foregrou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rints some diagnostic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ut does not execute logg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en satisfied with named's start, kill the process and start without the fla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amed-checkcon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hecks syntax onl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0A6624-3A1B-47FE-AC68-648A630CAA34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5T12:28:22Z</dcterms:created>
  <dc:creator>Edward Lewis</dc:creator>
  <dc:description/>
  <dc:language>en-US</dc:language>
  <cp:lastModifiedBy>Marmaduke Wildebeeste</cp:lastModifiedBy>
  <cp:lastPrinted>2003-02-20T01:50:27Z</cp:lastPrinted>
  <dcterms:modified xsi:type="dcterms:W3CDTF">2003-06-01T20:48:57Z</dcterms:modified>
  <cp:revision>30</cp:revision>
  <dc:subject/>
  <dc:title>PowerPoint Presentation  -  Table of Contents</dc:title>
</cp:coreProperties>
</file>